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4.png" ContentType="image/png"/>
  <Override PartName="/ppt/media/image11.jpeg" ContentType="image/jpeg"/>
  <Override PartName="/ppt/media/image4.png" ContentType="image/png"/>
  <Override PartName="/ppt/media/image13.jpeg" ContentType="image/jpeg"/>
  <Override PartName="/ppt/media/image23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14.jpeg" ContentType="image/jpe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31.jpeg" ContentType="image/jpeg"/>
  <Override PartName="/ppt/media/image2.png" ContentType="image/png"/>
  <Override PartName="/ppt/media/image32.jpeg" ContentType="image/jpeg"/>
  <Override PartName="/ppt/media/image3.png" ContentType="image/png"/>
  <Override PartName="/ppt/media/image17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5.jpeg" ContentType="image/jpeg"/>
  <Override PartName="/ppt/media/image16.jpeg" ContentType="image/jpeg"/>
  <Override PartName="/ppt/media/image18.png" ContentType="image/png"/>
  <Override PartName="/ppt/media/image28.jpeg" ContentType="image/jpeg"/>
  <Override PartName="/ppt/media/image25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7674-1874-49D3-885B-90449069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A82C-AEB7-4F71-A48B-A4A3FF9C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AA3B-5A02-4CC6-9E70-AEE34853E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1A69-78C6-4628-A332-8CCA84892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CE43-1ACE-4FA0-83A5-2CF02148E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69A14-FC42-44CF-9347-6F496258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B894-E4B9-4529-BFC8-C61AEF8C9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447DF-EF36-47A2-B0E4-019252EA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8427-6968-4B8E-879E-2540F7D6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4034B-3BB9-4FFF-BA0C-58A774696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71686-6B90-4843-A491-21311DB1F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5CF-9C73-451F-B486-68471FA87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60A5F-3E2E-484C-8D4D-7DEE4B05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440E-AFEB-494F-A7BC-BF70A6B1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37CD-E462-440D-9EF1-7F784FE29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DEAA-92D2-48A7-AD47-AB6029822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63C5-C69E-41AA-9426-BC189F997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DC210-ADE2-46F1-B433-3FA2771CA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69053-E6DA-4908-A933-78FDE2E28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752D3-4E64-4B60-BBE8-1A7EB2115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0F9CF-5E23-4B87-99E0-2508C397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C4970-074F-4CFF-983E-4FC545518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F665-8303-42AF-A119-AF11FF8E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DC31D-9D24-4F86-9829-87A9AE5E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617B1-D38C-4D00-9489-1241F7AAA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A4762-2946-4938-A08F-2FCA2772F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E9F69-8A0D-4EC4-AC09-21E65D24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93116-9F7E-430B-8098-EDB6AB92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69137-CB27-492D-B853-D7A79EBC3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4DEAD-7F36-447F-8CE6-A4806EF3F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8FC6B0-5EC6-440E-8BEA-D9DD3E21B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17B9F5-35F3-4B35-BB89-E9FE241A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69DDDA-1D9A-49EE-906D-1B9C13F8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A6E-DBFB-4679-9474-D5CF97526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0F0EE8-B727-41BE-AD67-A7B00737E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F6EC4-A304-4AF6-A48B-50574E49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7E9C2-E6C6-4E12-898F-686B7B1E5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64EE2-C853-4C35-BEA1-8E0BDA74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0859A-B758-47CB-92D9-A097C722E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67D2F-2CE4-4496-A005-1ECC33FD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682BC-3DE9-49B3-80F3-428CC62A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CE761-7764-4D67-B8F9-0A07F0A8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CF0B49-C829-490E-9B96-68FE68567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7A5A-5956-4D7C-BF41-179CE1DCE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6AC-5F16-48D8-8E93-BF353A35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0E05-B1DD-4FE8-BD31-C67A777C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C4F6-F9DA-4092-BA88-5CD5CED47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794E-0AFA-4117-BA92-45F663CB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7.xml"/><Relationship Id="rId10" Type="http://schemas.openxmlformats.org/officeDocument/2006/relationships/slideLayout" Target="../slideLayouts/slideLayout38.xml"/><Relationship Id="rId11" Type="http://schemas.openxmlformats.org/officeDocument/2006/relationships/slideLayout" Target="../slideLayouts/slideLayout39.xml"/><Relationship Id="rId12" Type="http://schemas.openxmlformats.org/officeDocument/2006/relationships/slideLayout" Target="../slideLayouts/slideLayout40.xml"/><Relationship Id="rId13" Type="http://schemas.openxmlformats.org/officeDocument/2006/relationships/slideLayout" Target="../slideLayouts/slideLayout41.xml"/><Relationship Id="rId14" Type="http://schemas.openxmlformats.org/officeDocument/2006/relationships/slideLayout" Target="../slideLayouts/slideLayout42.xml"/><Relationship Id="rId15" Type="http://schemas.openxmlformats.org/officeDocument/2006/relationships/slideLayout" Target="../slideLayouts/slideLayout43.xml"/><Relationship Id="rId16" Type="http://schemas.openxmlformats.org/officeDocument/2006/relationships/slideLayout" Target="../slideLayouts/slideLayout44.xml"/><Relationship Id="rId17" Type="http://schemas.openxmlformats.org/officeDocument/2006/relationships/slideLayout" Target="../slideLayouts/slideLayout45.xml"/><Relationship Id="rId18" Type="http://schemas.openxmlformats.org/officeDocument/2006/relationships/slideLayout" Target="../slideLayouts/slideLayout46.xml"/><Relationship Id="rId19" Type="http://schemas.openxmlformats.org/officeDocument/2006/relationships/slideLayout" Target="../slideLayouts/slideLayout47.xml"/><Relationship Id="rId20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1634-8CD9-4F22-AABE-225F7AB54DAB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52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55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62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6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65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6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69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E2F46-CDEC-4F8E-9306-B36CAD57C2F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1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1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2" name="Rectangle 6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23" name="Rectangle 6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25" name="Rectangle 7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26" name="Rectangle 7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2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30" name="Oval 9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7226A-32CA-465C-ADE3-B3C724A10430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74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76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77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80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81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3" name="Rectangle 7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84" name="Rectangle 7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86" name="Rectangle 8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87" name="Rectangle 8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8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90" name="Oval 10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91" name="Oval 10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4EDD-11CB-40A7-A4C4-CD7D2CC5AA6D}" type="slidenum">
              <a:rPr b="1" lang="ru-RU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9"/>
    <p:sldLayoutId id="2147483689" r:id="rId10"/>
    <p:sldLayoutId id="2147483690" r:id="rId11"/>
    <p:sldLayoutId id="2147483691" r:id="rId12"/>
    <p:sldLayoutId id="2147483692" r:id="rId13"/>
    <p:sldLayoutId id="2147483693" r:id="rId14"/>
    <p:sldLayoutId id="2147483694" r:id="rId15"/>
    <p:sldLayoutId id="2147483695" r:id="rId16"/>
    <p:sldLayoutId id="2147483696" r:id="rId17"/>
    <p:sldLayoutId id="2147483697" r:id="rId18"/>
    <p:sldLayoutId id="2147483698" r:id="rId19"/>
    <p:sldLayoutId id="2147483699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171360" y="738360"/>
            <a:ext cx="8369280" cy="51019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C:\Users\User\Desktop\система работы по профориентации\7777.jpg"/>
          <p:cNvPicPr/>
          <p:nvPr/>
        </p:nvPicPr>
        <p:blipFill>
          <a:blip r:embed="rId2"/>
          <a:stretch/>
        </p:blipFill>
        <p:spPr>
          <a:xfrm>
            <a:off x="7380360" y="260280"/>
            <a:ext cx="1244520" cy="165420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Прямоугольник 1"/>
          <p:cNvSpPr/>
          <p:nvPr/>
        </p:nvSpPr>
        <p:spPr>
          <a:xfrm>
            <a:off x="250920" y="476280"/>
            <a:ext cx="8497800" cy="64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ПРОФОРИЕНТАЦИОННАЯ РАБОТ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44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в школе приносит пользу только тогда, когда к работе привлечён весь коллектив школы, и когда соблюдаются </a:t>
            </a:r>
            <a:r>
              <a:rPr b="1" lang="ru-RU" sz="2800" spc="-1" strike="noStrike" u="sng">
                <a:solidFill>
                  <a:srgbClr val="c00000"/>
                </a:solidFill>
                <a:uFillTx/>
                <a:latin typeface="Trebuchet MS"/>
              </a:rPr>
              <a:t>следующие принципы</a:t>
            </a:r>
            <a:r>
              <a:rPr b="1" lang="ru-RU" sz="2800" spc="-1" strike="noStrike">
                <a:solidFill>
                  <a:srgbClr val="c00000"/>
                </a:solidFill>
                <a:latin typeface="Trebuchet MS"/>
              </a:rPr>
              <a:t>:</a:t>
            </a:r>
            <a:br>
              <a:rPr sz="28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1) Систематичность и преемственность - профориентационная работа не должна ограничиваться работой только  со старшеклассниками. Эта работа ведется с первого по выпускной класс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2) Дифференцированный и индивидуальный подход к учащимся в зависимости от возраста и уровня сформированности их интересов, от различий в ценностных ориентациях и жизненных планах, от уровня успеваем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3) Оптимальное сочетание массовых, групповых и индивидуальных форм профориентационной работы с учащимися и родителям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4) Взаимосвязь школы, семьи, профессиональных учебных заведений, службы занятости.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Trebuchet MS"/>
              </a:rPr>
              <a:t>5) Связь профориентации с жизн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472760" y="5052960"/>
            <a:ext cx="5637240" cy="8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212745"/>
              </a:solidFill>
              <a:latin typeface="Trebuchet MS"/>
            </a:endParaRPr>
          </a:p>
        </p:txBody>
      </p:sp>
      <p:pic>
        <p:nvPicPr>
          <p:cNvPr id="239" name="Заголовок 2" descr=""/>
          <p:cNvPicPr/>
          <p:nvPr/>
        </p:nvPicPr>
        <p:blipFill>
          <a:blip r:embed="rId1"/>
          <a:stretch/>
        </p:blipFill>
        <p:spPr>
          <a:xfrm>
            <a:off x="-6480" y="353880"/>
            <a:ext cx="9126720" cy="45784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C:\Users\User\Desktop\Новая папка\Изображение 513.jpg"/>
          <p:cNvPicPr/>
          <p:nvPr/>
        </p:nvPicPr>
        <p:blipFill>
          <a:blip r:embed="rId2"/>
          <a:stretch/>
        </p:blipFill>
        <p:spPr>
          <a:xfrm>
            <a:off x="-92160" y="4611600"/>
            <a:ext cx="2995560" cy="224640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Users\User\Desktop\Новая папка\P1010377.JPG"/>
          <p:cNvPicPr/>
          <p:nvPr/>
        </p:nvPicPr>
        <p:blipFill>
          <a:blip r:embed="rId3"/>
          <a:stretch/>
        </p:blipFill>
        <p:spPr>
          <a:xfrm>
            <a:off x="6561000" y="104760"/>
            <a:ext cx="2552760" cy="19130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Users\User\Desktop\Новая папка\20131113_162307.jpg"/>
          <p:cNvPicPr/>
          <p:nvPr/>
        </p:nvPicPr>
        <p:blipFill>
          <a:blip r:embed="rId4"/>
          <a:stretch/>
        </p:blipFill>
        <p:spPr>
          <a:xfrm>
            <a:off x="6404040" y="3854520"/>
            <a:ext cx="2716200" cy="2036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5" descr="C:\Users\User\Desktop\Новая папка\S5005092.JPG"/>
          <p:cNvPicPr/>
          <p:nvPr/>
        </p:nvPicPr>
        <p:blipFill>
          <a:blip r:embed="rId5"/>
          <a:stretch/>
        </p:blipFill>
        <p:spPr>
          <a:xfrm>
            <a:off x="2894040" y="4691160"/>
            <a:ext cx="2781360" cy="20876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C:\Users\User\Desktop\Новая папка\CIMG4584.JPG"/>
          <p:cNvPicPr/>
          <p:nvPr/>
        </p:nvPicPr>
        <p:blipFill>
          <a:blip r:embed="rId6"/>
          <a:stretch/>
        </p:blipFill>
        <p:spPr>
          <a:xfrm>
            <a:off x="5680080" y="4946760"/>
            <a:ext cx="24415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1" descr=""/>
          <p:cNvPicPr/>
          <p:nvPr/>
        </p:nvPicPr>
        <p:blipFill>
          <a:blip r:embed="rId1"/>
          <a:stretch/>
        </p:blipFill>
        <p:spPr>
          <a:xfrm>
            <a:off x="1785960" y="4078440"/>
            <a:ext cx="6791400" cy="17985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 txBox="1"/>
          <p:nvPr/>
        </p:nvSpPr>
        <p:spPr>
          <a:xfrm>
            <a:off x="178920" y="0"/>
            <a:ext cx="9145800" cy="35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16596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Встречи со специалистами разных профессии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4040"/>
                </a:solidFill>
                <a:latin typeface="Trebuchet MS"/>
              </a:rPr>
              <a:t>Планируемые результаты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В результате изучения курса у  школьников формируются: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представления о нравственных основах учебы, ведущей роли образования, труда и значении творче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важение к труду и творчеству старших и сверстник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б основных профессиях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ценностное отношение к учебе как виду творческой деятельности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элементарные представления о роли знаний, науки, современного производства в жизни человека и общества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ервоначальные навыки коллективной работы, в том числе при разработке и реализации учебных и учебно-трудовых проектов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проявлять дисциплинированность, последовательность и настойчивость в выполнении трудовых заданий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умение соблюдать порядок на рабочем месте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ережное отношение к результатам своего труда, труда других людей, к школьному имуществу, учебникам, личным вещам;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  <a:p>
            <a:pPr marL="207720" indent="-16596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отрицательное отношение к лени и небрежности в труде и учебе,  небережливому отношению к результатам труда людей.</a:t>
            </a:r>
            <a:endParaRPr b="0" lang="en-US" sz="1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7" name="Picture 5" descr="D:\MY FOTO\Школьные фото\МО учителей школы\МО МАТЕМАТИКОВ\Изображение 025.jpg"/>
          <p:cNvPicPr/>
          <p:nvPr/>
        </p:nvPicPr>
        <p:blipFill>
          <a:blip r:embed="rId2"/>
          <a:stretch/>
        </p:blipFill>
        <p:spPr>
          <a:xfrm>
            <a:off x="5983200" y="3908520"/>
            <a:ext cx="2298960" cy="172404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7" descr="D:\MY FOTO\Школьные фото\МО учителей школы\МО ОБЖ, ФИЗ-РЫ\Изображение 052.jpg"/>
          <p:cNvPicPr/>
          <p:nvPr/>
        </p:nvPicPr>
        <p:blipFill>
          <a:blip r:embed="rId3"/>
          <a:stretch/>
        </p:blipFill>
        <p:spPr>
          <a:xfrm>
            <a:off x="6729480" y="4937040"/>
            <a:ext cx="2419200" cy="1814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9" descr="SANY0478"/>
          <p:cNvPicPr/>
          <p:nvPr/>
        </p:nvPicPr>
        <p:blipFill>
          <a:blip r:embed="rId4"/>
          <a:stretch/>
        </p:blipFill>
        <p:spPr>
          <a:xfrm>
            <a:off x="3363840" y="388620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250" name="Рисунок 3" descr=""/>
          <p:cNvPicPr/>
          <p:nvPr/>
        </p:nvPicPr>
        <p:blipFill>
          <a:blip r:embed="rId5"/>
          <a:stretch/>
        </p:blipFill>
        <p:spPr>
          <a:xfrm>
            <a:off x="176040" y="4076640"/>
            <a:ext cx="3071880" cy="2347920"/>
          </a:xfrm>
          <a:prstGeom prst="rect">
            <a:avLst/>
          </a:prstGeom>
          <a:ln w="0">
            <a:noFill/>
          </a:ln>
        </p:spPr>
      </p:pic>
      <p:pic>
        <p:nvPicPr>
          <p:cNvPr id="251" name="Рисунок 4" descr=""/>
          <p:cNvPicPr/>
          <p:nvPr/>
        </p:nvPicPr>
        <p:blipFill>
          <a:blip r:embed="rId6"/>
          <a:stretch/>
        </p:blipFill>
        <p:spPr>
          <a:xfrm>
            <a:off x="4535640" y="5103720"/>
            <a:ext cx="2158920" cy="1648080"/>
          </a:xfrm>
          <a:prstGeom prst="rect">
            <a:avLst/>
          </a:prstGeom>
          <a:ln w="0">
            <a:noFill/>
          </a:ln>
        </p:spPr>
      </p:pic>
      <p:pic>
        <p:nvPicPr>
          <p:cNvPr id="252" name="Рисунок 5" descr=""/>
          <p:cNvPicPr/>
          <p:nvPr/>
        </p:nvPicPr>
        <p:blipFill>
          <a:blip r:embed="rId7"/>
          <a:stretch/>
        </p:blipFill>
        <p:spPr>
          <a:xfrm>
            <a:off x="2189160" y="5073480"/>
            <a:ext cx="2276640" cy="17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250560" y="476280"/>
            <a:ext cx="871380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ланируемы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результаты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Личност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выявление личностных особенностей и склонности у обучающихся к определённой профессии; деятельности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 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ознакомить обучающихся с особенностями той профессии, задания в области которой им предлагается выполнить на практике. ..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Познавательные: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обеспечить </a:t>
            </a:r>
            <a:r>
              <a:rPr b="1" lang="ru-RU" sz="2000" spc="-1" strike="noStrike">
                <a:solidFill>
                  <a:srgbClr val="212745"/>
                </a:solidFill>
                <a:latin typeface="Trebuchet MS"/>
              </a:rPr>
              <a:t>профессиональное</a:t>
            </a: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 самоопределение обучающихся;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2745"/>
                </a:solidFill>
                <a:latin typeface="Trebuchet MS"/>
              </a:rPr>
              <a:t>- дать реальные данные по различным аспектам профессии (востребованность на рынке труда, объём работы, сложности в получении образования)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4" name="Заголовок 2" descr=""/>
          <p:cNvPicPr/>
          <p:nvPr/>
        </p:nvPicPr>
        <p:blipFill>
          <a:blip r:embed="rId1"/>
          <a:stretch/>
        </p:blipFill>
        <p:spPr>
          <a:xfrm>
            <a:off x="317520" y="133200"/>
            <a:ext cx="8362800" cy="817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2" descr="C:\Users\User\Desktop\Новая папка (2)\профессиональные пробы\ПРОФЕССИОНАЛЬНЫЕ ПРОБЫ  слайды\экскурсовод.jpg"/>
          <p:cNvPicPr/>
          <p:nvPr/>
        </p:nvPicPr>
        <p:blipFill>
          <a:blip r:embed="rId2"/>
          <a:stretch/>
        </p:blipFill>
        <p:spPr>
          <a:xfrm>
            <a:off x="33480" y="4557600"/>
            <a:ext cx="3124080" cy="22161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C:\Users\User\Desktop\Новая папка (2)\профессиональные пробы\ПРОФЕССИОНАЛЬНЫЕ ПРОБЫ  слайды\театр.jpg"/>
          <p:cNvPicPr/>
          <p:nvPr/>
        </p:nvPicPr>
        <p:blipFill>
          <a:blip r:embed="rId3"/>
          <a:stretch/>
        </p:blipFill>
        <p:spPr>
          <a:xfrm>
            <a:off x="3048120" y="4467240"/>
            <a:ext cx="3268440" cy="231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C:\Users\User\Desktop\Новая папка (2)\профессиональные пробы\ПРОФЕССИОНАЛЬНЫЕ ПРОБЫ  слайды\экологическая игра 1.jpg"/>
          <p:cNvPicPr/>
          <p:nvPr/>
        </p:nvPicPr>
        <p:blipFill>
          <a:blip r:embed="rId4"/>
          <a:stretch/>
        </p:blipFill>
        <p:spPr>
          <a:xfrm>
            <a:off x="6054840" y="4653000"/>
            <a:ext cx="3055680" cy="214164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4" descr=""/>
          <p:cNvPicPr/>
          <p:nvPr/>
        </p:nvPicPr>
        <p:blipFill>
          <a:blip r:embed="rId5"/>
          <a:stretch/>
        </p:blipFill>
        <p:spPr>
          <a:xfrm>
            <a:off x="4694400" y="5129280"/>
            <a:ext cx="2290680" cy="174132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5" descr=""/>
          <p:cNvPicPr/>
          <p:nvPr/>
        </p:nvPicPr>
        <p:blipFill>
          <a:blip r:embed="rId6"/>
          <a:stretch/>
        </p:blipFill>
        <p:spPr>
          <a:xfrm>
            <a:off x="1835280" y="5626080"/>
            <a:ext cx="1301760" cy="109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C:\Users\User\Desktop\система работы по профориентации\0002-002-Proforientatsija.jpg"/>
          <p:cNvPicPr/>
          <p:nvPr/>
        </p:nvPicPr>
        <p:blipFill>
          <a:blip r:embed="rId1"/>
          <a:stretch/>
        </p:blipFill>
        <p:spPr>
          <a:xfrm>
            <a:off x="87480" y="138240"/>
            <a:ext cx="8948520" cy="6603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3" descr="C:\Users\User\Desktop\система работы по профориентации\CtotakoeEM_EM_339438453.jpg"/>
          <p:cNvPicPr/>
          <p:nvPr/>
        </p:nvPicPr>
        <p:blipFill>
          <a:blip r:embed="rId2"/>
          <a:stretch/>
        </p:blipFill>
        <p:spPr>
          <a:xfrm>
            <a:off x="7451640" y="476280"/>
            <a:ext cx="1141560" cy="8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8920" y="3357360"/>
            <a:ext cx="871380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Проблемная тема школы –</a:t>
            </a:r>
            <a:br>
              <a:rPr sz="2800"/>
            </a:br>
            <a:r>
              <a:rPr b="1" lang="ru-RU" sz="2800" spc="-1" strike="noStrike">
                <a:solidFill>
                  <a:srgbClr val="7030a0"/>
                </a:solidFill>
                <a:latin typeface="Trebuchet MS"/>
              </a:rPr>
              <a:t>создание условий для успешного саморазвития и самоопределения личности ученика средствами образовательного пространства школы.</a:t>
            </a:r>
            <a:endParaRPr b="1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5280" y="731880"/>
            <a:ext cx="835344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280" indent="0">
              <a:spcBef>
                <a:spcPts val="7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rebuchet MS"/>
              </a:rPr>
              <a:t>Выбор будущей профессии – сложный и ответственный шаг в жизни каждого человека. От продуманного выбора профессии зависит будущая судьба, свое место в жизни. 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3T16:57:46Z</dcterms:created>
  <dc:creator>User</dc:creator>
  <dc:description/>
  <dc:language>en-US</dc:language>
  <cp:lastModifiedBy>кямран1</cp:lastModifiedBy>
  <dcterms:modified xsi:type="dcterms:W3CDTF">2022-11-23T17:22:01Z</dcterms:modified>
  <cp:revision>78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5d0000000000010243100207f6000400038000</vt:lpwstr>
  </property>
</Properties>
</file>