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EEC1-F96C-4148-B352-535CBDA6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6E8E-AB20-4D3C-996B-5C95E9A3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B655-FB10-438F-B109-1C5E270B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B8F3-36FE-44F3-8A3D-A1F7B424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A6AE-1FF6-49E0-9E5C-39E4700C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74A3-E88E-4E9E-9D45-70AFB9CB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7CB6-7719-4BC3-8673-E48650C9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8938-209E-46A3-839D-53C412CA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550D-E747-4C61-B328-EBE93EDD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4799-C203-466B-BF77-5A976FCF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9A72-0F4B-4D68-B962-5EDDFA17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2B4E-D456-4BB5-9C42-DAB33E5E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B590-4EAC-4164-AEB0-9D44D55E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279B-C3AD-4B0A-BE60-160171BF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3CC5-FEC7-49DB-824E-7C4A0945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73D0-E768-453A-972F-24EAEBD3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FB64-9EDF-4B42-B74F-275C46CA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F8C95-A527-4F77-8AD1-75DF3B3B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4DED0-378B-47E5-8C8C-F2A0445C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76461-3451-48C1-94AA-58FB9767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154A4-A37C-46A9-A9B9-572A143D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3CFEE-FE6F-4A19-ABBD-24C76FD2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E9B8-16C2-48D5-9C2F-5A4F3808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A27CE-725F-417E-BB14-514E8591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2ED13-3C6C-47B9-97F7-4C34775F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FC7BC-2C7A-4A1F-8E49-0F42CFFE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F66BF-9FF7-4F22-88DD-30548557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BDC9E-CBD3-466D-9430-815119FD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52C03-B59F-46A7-B00D-62787AAE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1AF60-4106-4ECF-86DF-02971A9D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5EDD5-5775-4722-B688-B3654952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20D2C-9ED3-4C78-9ADE-13A87430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57CFC-EFB9-42C8-B20C-B7DDF684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4A83-DE9E-4E24-82F7-E27252D9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18759-904E-4C16-901A-D6C6D894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E3FE5-B32B-4A3A-9A25-81A31710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B1460-2DED-461E-A282-E78BAEEF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5EA1E-819A-4D03-BCFF-16DC21F0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538BC-6960-4FB7-96FC-3ED9305D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2B0EB-D688-48CB-86C8-CA65F7BD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2A5BF-B70D-4E9D-ACC7-76EC68E0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087AB-DCBA-4759-9FD8-FD427DFE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E21BE-E8E8-4FFC-9DDA-08CCB3C7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3CEF-18E8-4859-9D13-C01EAC07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1CD7-0429-4A2A-A1A4-1B287664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7A14-28A0-4334-8566-AB82995B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7544-EBF2-4F79-B003-98D4A185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98B6-C7F1-4395-BF64-F95C7B87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DFA0-64DB-48CB-B3FD-FCF5C8FC677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75AD-99DA-43EE-BF07-53EEE7D2D82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9901-0E60-4F0D-B214-5B25EF8A420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C524-4994-49BD-96C2-FF56A42D51A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7" descr="C:\Users\азизова\Downloads\9489-20171201_120859.jpg"/>
          <p:cNvPicPr/>
          <p:nvPr/>
        </p:nvPicPr>
        <p:blipFill>
          <a:blip r:embed="rId2"/>
          <a:stretch/>
        </p:blipFill>
        <p:spPr>
          <a:xfrm>
            <a:off x="6378480" y="0"/>
            <a:ext cx="2765520" cy="21891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8" descr="C:\Users\азизова\Desktop\35b4dfaeec15b583b2015dbad66c4121.jpg"/>
          <p:cNvPicPr/>
          <p:nvPr/>
        </p:nvPicPr>
        <p:blipFill>
          <a:blip r:embed="rId3"/>
          <a:stretch/>
        </p:blipFill>
        <p:spPr>
          <a:xfrm>
            <a:off x="108000" y="443700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C:\Users\азизова\Desktop\c4ec20b1a5e229c46fd767efd00f0f7f.jpg"/>
          <p:cNvPicPr/>
          <p:nvPr/>
        </p:nvPicPr>
        <p:blipFill>
          <a:blip r:embed="rId4"/>
          <a:stretch/>
        </p:blipFill>
        <p:spPr>
          <a:xfrm>
            <a:off x="6804000" y="4292640"/>
            <a:ext cx="2160720" cy="2305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C:\Users\азизова\Desktop\5mol5Kt2A4E0aBZJDS4V1650030830.jpeg"/>
          <p:cNvPicPr/>
          <p:nvPr/>
        </p:nvPicPr>
        <p:blipFill>
          <a:blip r:embed="rId5"/>
          <a:stretch/>
        </p:blipFill>
        <p:spPr>
          <a:xfrm>
            <a:off x="2411280" y="4292640"/>
            <a:ext cx="4345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Рисунок 9" descr="C:\Documents and Settings\User\Рабочий стол\рабочий стол 2018года\Новый 2018-2019 учебный год\Детям Беслана фото на сайт\IMG-20180908-WA0041.jpg"/>
          <p:cNvPicPr/>
          <p:nvPr/>
        </p:nvPicPr>
        <p:blipFill>
          <a:blip r:embed="rId2"/>
          <a:stretch/>
        </p:blipFill>
        <p:spPr>
          <a:xfrm>
            <a:off x="755640" y="3933720"/>
            <a:ext cx="4103640" cy="2816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1" descr="D:\рабочий стол 2018года\Новая папка (3)\IMG_20180502_120516.jpg"/>
          <p:cNvPicPr/>
          <p:nvPr/>
        </p:nvPicPr>
        <p:blipFill>
          <a:blip r:embed="rId3"/>
          <a:stretch/>
        </p:blipFill>
        <p:spPr>
          <a:xfrm>
            <a:off x="4932360" y="3933720"/>
            <a:ext cx="396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азизова</cp:lastModifiedBy>
  <dcterms:modified xsi:type="dcterms:W3CDTF">2022-11-24T11:11:25Z</dcterms:modified>
  <cp:revision>9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