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4.png" ContentType="image/pn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20.jpeg" ContentType="image/jpeg"/>
  <Override PartName="/ppt/media/image14.jpeg" ContentType="image/jpe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31.jpeg" ContentType="image/jpeg"/>
  <Override PartName="/ppt/media/image2.png" ContentType="image/png"/>
  <Override PartName="/ppt/media/image32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8.jpeg" ContentType="image/jpeg"/>
  <Override PartName="/ppt/media/image25.png" ContentType="image/pn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280B-2B38-4E0C-A015-1319837BA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7538-6DC9-4915-BAEB-892A9769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1062-27DB-4F62-B8B7-144718321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AE47-EB9D-4A52-8E7F-1D30D2D4C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D74D-7744-4E8B-B597-7FBE6F67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4288-712F-411C-AD67-8BCC2FFE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68B1-DBD4-4214-B1C7-EC90607C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ECF2-4F26-408D-B036-3ED173FD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3CAE-7994-462E-85D3-78C99170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406E-4355-45D9-B2A0-3EBD9650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C913-4AD8-406C-9F73-47265C46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4D21-6D26-499F-84F8-66AD9257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96CF-960D-4F94-B725-43B7ECE3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7897-F450-4A01-8AD2-8132524C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0D9C-4436-4F6D-B8E9-F562B8BB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F19A-1774-4E1A-BCA6-8F402FE82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AA21-40BD-48E5-8893-717ABBE2A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FA578-2EA7-4AD9-95F4-D920BAF3A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07B23-121F-4F30-AC9C-CD301DCE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A66B9-B53F-4E3E-897C-6D3FD8EA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266CF-8D58-494B-9A89-99305F49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C9E91-3339-4F7C-A878-B1ABF7B2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BC2A-D6D0-44AC-A6FD-392A8CE7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225CC-9C34-40B8-985C-B04EEBEE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0BB08-21F5-49EE-AA5B-A9C27C7E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47CF0-8B78-4ACE-A456-C8D9A9BD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8A3C0-26B5-49E9-B2BE-147093F7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471C2-FA86-45BA-B203-FF183408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5EA0E-836E-4EC6-A7DC-84DF4CD22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89B81-E13C-4629-BA98-DBDC4CFAD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EA433-BF14-4F3B-AEBA-0A47756CE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ED3B2-E6EC-4317-A038-9D476094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82A3F-91BE-4B2F-BDF9-47E1286C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14BD-DB54-4545-B992-D9002008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9EEAE-39A3-438F-9B42-C5C60A1D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D636D-4565-4B36-A87C-C76D67DF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67F34-76FE-437F-8AB0-D343673E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53B98-1E8C-40D3-BAD8-0D8A3D34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F77B3-2323-4D3D-9FC3-14E54ED2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AF847-EED9-4FDD-BB05-FE3FAE51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15391-2E32-4878-9DEB-7B47E680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9C3AA-A0BB-4ED8-9F0A-62ABA883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D29C1-6E63-448D-B557-FE5C1F21A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EE1B-0CAE-4697-A699-28F03FEE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C12A-229A-4861-8536-A01A2926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3116-92DA-471B-8B85-7E45BC0A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0A04-1821-48C6-B5DC-A9A06A8E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D171-7FEC-4FE0-A65A-679A0CF7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9159-032A-4EE8-B90B-F46AD897A9E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E113-6752-4842-9508-63A80DE8FFB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1DD9-98B7-40C9-AFFA-E21EB6A1632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F425-FD77-4930-B23B-8067A43C54B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C:\Users\User\Desktop\Новая папка\Изображение 513.jpg"/>
          <p:cNvPicPr/>
          <p:nvPr/>
        </p:nvPicPr>
        <p:blipFill>
          <a:blip r:embed="rId2"/>
          <a:stretch/>
        </p:blipFill>
        <p:spPr>
          <a:xfrm>
            <a:off x="-92160" y="4611600"/>
            <a:ext cx="2995560" cy="2246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Users\User\Desktop\Новая папка\P1010377.JPG"/>
          <p:cNvPicPr/>
          <p:nvPr/>
        </p:nvPicPr>
        <p:blipFill>
          <a:blip r:embed="rId3"/>
          <a:stretch/>
        </p:blipFill>
        <p:spPr>
          <a:xfrm>
            <a:off x="6561000" y="104760"/>
            <a:ext cx="2552760" cy="1913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Users\User\Desktop\Новая папка\20131113_162307.jpg"/>
          <p:cNvPicPr/>
          <p:nvPr/>
        </p:nvPicPr>
        <p:blipFill>
          <a:blip r:embed="rId4"/>
          <a:stretch/>
        </p:blipFill>
        <p:spPr>
          <a:xfrm>
            <a:off x="6404040" y="3854520"/>
            <a:ext cx="2716200" cy="2036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Users\User\Desktop\Новая папка\S5005092.JPG"/>
          <p:cNvPicPr/>
          <p:nvPr/>
        </p:nvPicPr>
        <p:blipFill>
          <a:blip r:embed="rId5"/>
          <a:stretch/>
        </p:blipFill>
        <p:spPr>
          <a:xfrm>
            <a:off x="2894040" y="4691160"/>
            <a:ext cx="2781360" cy="2087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C:\Users\User\Desktop\Новая папка\CIMG4584.JPG"/>
          <p:cNvPicPr/>
          <p:nvPr/>
        </p:nvPicPr>
        <p:blipFill>
          <a:blip r:embed="rId6"/>
          <a:stretch/>
        </p:blipFill>
        <p:spPr>
          <a:xfrm>
            <a:off x="5680080" y="4946760"/>
            <a:ext cx="24415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5" descr="D:\MY FOTO\Школьные фото\МО учителей школы\МО МАТЕМАТИКОВ\Изображение 025.jpg"/>
          <p:cNvPicPr/>
          <p:nvPr/>
        </p:nvPicPr>
        <p:blipFill>
          <a:blip r:embed="rId2"/>
          <a:stretch/>
        </p:blipFill>
        <p:spPr>
          <a:xfrm>
            <a:off x="5983200" y="3908520"/>
            <a:ext cx="2298960" cy="1724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D:\MY FOTO\Школьные фото\МО учителей школы\МО ОБЖ, ФИЗ-РЫ\Изображение 052.jpg"/>
          <p:cNvPicPr/>
          <p:nvPr/>
        </p:nvPicPr>
        <p:blipFill>
          <a:blip r:embed="rId3"/>
          <a:stretch/>
        </p:blipFill>
        <p:spPr>
          <a:xfrm>
            <a:off x="6729480" y="4937040"/>
            <a:ext cx="2419200" cy="1814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SANY0478"/>
          <p:cNvPicPr/>
          <p:nvPr/>
        </p:nvPicPr>
        <p:blipFill>
          <a:blip r:embed="rId4"/>
          <a:stretch/>
        </p:blipFill>
        <p:spPr>
          <a:xfrm>
            <a:off x="3363840" y="388620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3" descr=""/>
          <p:cNvPicPr/>
          <p:nvPr/>
        </p:nvPicPr>
        <p:blipFill>
          <a:blip r:embed="rId5"/>
          <a:stretch/>
        </p:blipFill>
        <p:spPr>
          <a:xfrm>
            <a:off x="176040" y="4076640"/>
            <a:ext cx="3071880" cy="23479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" descr=""/>
          <p:cNvPicPr/>
          <p:nvPr/>
        </p:nvPicPr>
        <p:blipFill>
          <a:blip r:embed="rId6"/>
          <a:stretch/>
        </p:blipFill>
        <p:spPr>
          <a:xfrm>
            <a:off x="4535640" y="5103720"/>
            <a:ext cx="2158920" cy="164808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5" descr=""/>
          <p:cNvPicPr/>
          <p:nvPr/>
        </p:nvPicPr>
        <p:blipFill>
          <a:blip r:embed="rId7"/>
          <a:stretch/>
        </p:blipFill>
        <p:spPr>
          <a:xfrm>
            <a:off x="2189160" y="5073480"/>
            <a:ext cx="227664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Users\User\Desktop\Новая папка (2)\профессиональные пробы\ПРОФЕССИОНАЛЬНЫЕ ПРОБЫ  слайды\экскурсовод.jpg"/>
          <p:cNvPicPr/>
          <p:nvPr/>
        </p:nvPicPr>
        <p:blipFill>
          <a:blip r:embed="rId2"/>
          <a:stretch/>
        </p:blipFill>
        <p:spPr>
          <a:xfrm>
            <a:off x="33480" y="4557600"/>
            <a:ext cx="3124080" cy="2216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User\Desktop\Новая папка (2)\профессиональные пробы\ПРОФЕССИОНАЛЬНЫЕ ПРОБЫ  слайды\театр.jpg"/>
          <p:cNvPicPr/>
          <p:nvPr/>
        </p:nvPicPr>
        <p:blipFill>
          <a:blip r:embed="rId3"/>
          <a:stretch/>
        </p:blipFill>
        <p:spPr>
          <a:xfrm>
            <a:off x="3048120" y="4467240"/>
            <a:ext cx="3268440" cy="231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C:\Users\User\Desktop\Новая папка (2)\профессиональные пробы\ПРОФЕССИОНАЛЬНЫЕ ПРОБЫ  слайды\экологическая игра 1.jpg"/>
          <p:cNvPicPr/>
          <p:nvPr/>
        </p:nvPicPr>
        <p:blipFill>
          <a:blip r:embed="rId4"/>
          <a:stretch/>
        </p:blipFill>
        <p:spPr>
          <a:xfrm>
            <a:off x="6054840" y="4653000"/>
            <a:ext cx="3055680" cy="21416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4" descr=""/>
          <p:cNvPicPr/>
          <p:nvPr/>
        </p:nvPicPr>
        <p:blipFill>
          <a:blip r:embed="rId5"/>
          <a:stretch/>
        </p:blipFill>
        <p:spPr>
          <a:xfrm>
            <a:off x="4694400" y="5129280"/>
            <a:ext cx="2290680" cy="17413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5" descr=""/>
          <p:cNvPicPr/>
          <p:nvPr/>
        </p:nvPicPr>
        <p:blipFill>
          <a:blip r:embed="rId6"/>
          <a:stretch/>
        </p:blipFill>
        <p:spPr>
          <a:xfrm>
            <a:off x="1835280" y="5626080"/>
            <a:ext cx="13017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комп5</cp:lastModifiedBy>
  <dcterms:modified xsi:type="dcterms:W3CDTF">2022-11-23T11:33:06Z</dcterms:modified>
  <cp:revision>7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