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17.png" ContentType="image/png"/>
  <Override PartName="/ppt/media/image15.jpeg" ContentType="image/jpeg"/>
  <Override PartName="/ppt/media/image2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B7C-40F6-4858-B759-1016328B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5C18-20BA-46C2-A7B6-24FA8C75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D57-0C82-49E9-B4C7-0D3F71CE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8175-89F3-457D-B3E2-06736C3E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9916-6A21-4AE0-B895-47AF9A26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B87-3386-4674-A7DF-C7617E8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2B21-05F6-4585-970C-1B64C2A4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44DA-E766-4498-9CC0-F2E59FCB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EA89-6482-4E8E-9E1F-B24F52B2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A2D-E0B8-4142-BCEF-5F3F013C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32B1-D847-4187-B2B7-2B14F58D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E18-92A2-447B-A755-CEFD7A03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6454-D508-4F53-817E-D3F63E1B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18F5-6F7C-49CB-86D8-1F1DBB53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6B82-EE85-4521-965A-6CFB7E38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904F-6FEB-4A1A-93E1-60105D2A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F69D-1BC5-4490-89F4-94938A85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A6AC-70C8-4AA1-9063-E2229420D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B5C6-9417-4465-98D0-7C5B22F2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684E-CEEC-4F65-B8FD-C5D0DB40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118D5-2838-4E58-A086-04951E56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06E0-CA24-4E84-9B61-381BFF16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7F1-E4C2-4E8E-ABF0-80DFD9D5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FAAA-2D2B-47E8-B93B-71A2A566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C5CBD-171C-48F7-9046-2A70496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DB82-46F3-4B74-88E7-03B58B1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2B0F2-9DA1-441E-9471-BB88F507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4CA7-B927-4009-AF0F-8E4D5AA2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B22F-E73F-4EDA-B4D0-AA509F9A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D7712-7170-491F-A0F5-240AEE43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9F6A7-C64A-4798-B734-5687183E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727FA-F205-4685-BB01-7333BC0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DAD89-15F1-4478-AF98-635CF976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A03-A3FE-45D2-B10B-2897488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A74E-B54B-4B6B-80F8-756D5FA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1FC5A-D746-48FE-A8A9-717B0EBA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7C958-2AA1-418C-B2CD-AAF769D6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7D3B6-CC8F-4AE4-A6BA-227425A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95DA-4554-4D30-AAB2-F6B18987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DFF7-F7BC-46E5-B30B-F444F7D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EB2B2-FCB2-47A8-A3DA-E7A8A01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D10AE-0E15-4658-923E-40C9A760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A0B7-ACD9-4018-9010-34B7B8C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2D9-7D2E-4C45-93A2-73A40DA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A09-3C46-4E5C-BB14-FF5382F9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C56-65DA-4AD5-8BFD-6C79E725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A77-7BD2-4993-9C81-05326030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F181-C592-498B-86A8-72216B91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24DA-0B40-4D0D-97A3-FCF821F7E78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1BC-CEDE-460F-8828-FFD6A974445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94C-666A-44FE-98FA-93543A73205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A382-3CAA-480D-B9B5-5AB67F4DC32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7" descr="C:\Users\азизова\Downloads\9489-20171201_120859.jpg"/>
          <p:cNvPicPr/>
          <p:nvPr/>
        </p:nvPicPr>
        <p:blipFill>
          <a:blip r:embed="rId2"/>
          <a:stretch/>
        </p:blipFill>
        <p:spPr>
          <a:xfrm>
            <a:off x="6378480" y="0"/>
            <a:ext cx="2765520" cy="21891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8" descr="C:\Users\азизова\Desktop\35b4dfaeec15b583b2015dbad66c4121.jpg"/>
          <p:cNvPicPr/>
          <p:nvPr/>
        </p:nvPicPr>
        <p:blipFill>
          <a:blip r:embed="rId3"/>
          <a:stretch/>
        </p:blipFill>
        <p:spPr>
          <a:xfrm>
            <a:off x="108000" y="4437000"/>
            <a:ext cx="2232000" cy="2160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C:\Users\азизова\Desktop\c4ec20b1a5e229c46fd767efd00f0f7f.jpg"/>
          <p:cNvPicPr/>
          <p:nvPr/>
        </p:nvPicPr>
        <p:blipFill>
          <a:blip r:embed="rId4"/>
          <a:stretch/>
        </p:blipFill>
        <p:spPr>
          <a:xfrm>
            <a:off x="6804000" y="4292640"/>
            <a:ext cx="2160720" cy="2305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C:\Users\азизова\Desktop\5mol5Kt2A4E0aBZJDS4V1650030830.jpeg"/>
          <p:cNvPicPr/>
          <p:nvPr/>
        </p:nvPicPr>
        <p:blipFill>
          <a:blip r:embed="rId5"/>
          <a:stretch/>
        </p:blipFill>
        <p:spPr>
          <a:xfrm>
            <a:off x="2411280" y="4292640"/>
            <a:ext cx="434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Рисунок 9" descr="C:\Documents and Settings\User\Рабочий стол\рабочий стол 2018года\Новый 2018-2019 учебный год\Детям Беслана фото на сайт\IMG-20180908-WA0041.jpg"/>
          <p:cNvPicPr/>
          <p:nvPr/>
        </p:nvPicPr>
        <p:blipFill>
          <a:blip r:embed="rId2"/>
          <a:stretch/>
        </p:blipFill>
        <p:spPr>
          <a:xfrm>
            <a:off x="755640" y="3933720"/>
            <a:ext cx="4103640" cy="28162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D:\рабочий стол 2018года\Новая папка (3)\IMG_20180502_120516.jpg"/>
          <p:cNvPicPr/>
          <p:nvPr/>
        </p:nvPicPr>
        <p:blipFill>
          <a:blip r:embed="rId3"/>
          <a:stretch/>
        </p:blipFill>
        <p:spPr>
          <a:xfrm>
            <a:off x="4932360" y="3933720"/>
            <a:ext cx="3960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азизова</cp:lastModifiedBy>
  <dcterms:modified xsi:type="dcterms:W3CDTF">2022-11-24T11:11:25Z</dcterms:modified>
  <cp:revision>9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