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B73F-7859-473B-A345-2F98BACEC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E0D8-8FB7-44D4-A4A6-D4E65F6A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3009-9D8C-4810-9E75-C4264213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1C16-BD45-4DBF-9126-7856FBFF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E4EA-97DF-43CD-B554-53C29CCD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1D68-1B05-4904-AF68-50F23FC9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3E47-7C39-46C3-9433-287E661F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E8E6-E23E-4D67-A173-A1117535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845C-DEF2-4D18-B7A7-F3CCD916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7D2F-AAFD-4AA1-82CB-27F58BCB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45A2-3944-4920-9FAD-A2BF3FF1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D0FF-AD5C-4B19-B9F9-DB03C555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66F5-325B-44C8-A2CC-0AA428F4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1BD5-5BD1-4391-A912-A8C56354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B6C8-1B00-416A-B1FC-6D660F85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DCAD-14C4-4F68-8023-A9EE1B25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0F99-5369-4455-ACBD-BECC2958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90183-2521-47BB-9A5C-C1179ED0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F405E-43DE-4CAB-98DD-03B0055B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8A363-60C4-42F4-9EFD-98F29E92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04100-D4DB-4767-A9D3-EE4D397B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EF323-B94E-43E3-85B1-759DB5B2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A4A4-7D5B-4A21-8302-8F127320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E6AFA-C944-4928-936D-65C774D6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4F954-9841-426F-8CC3-2FBF66F4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E3872-1AF3-447F-ADB9-DDFCAD05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1714A-86D7-493D-845F-FCCD35F7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CD4EB-FFAF-47DD-84AE-E1345A8A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5C8BC-82E7-4094-9D26-B21F924B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B72CF-B7D7-4BA3-979A-B95531EA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60B43-2AD6-42F0-A4A6-7788ED8C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B761E-6051-4A88-BE72-C4765698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1B42F-3292-47D6-A12D-3D941DEC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2A45-C160-4688-910E-E417C7DC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14367-EE90-4F57-88ED-D6DA1687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3CCF3-9BD5-45EB-BDAB-4F98B869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F1995-C2C8-4136-897E-8A26DDF6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57019-D6B6-4440-A37D-B59D0316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F8EAE-F204-4DDD-A5A6-5E9C70BB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FE572-CC1B-4414-A6EA-6ABA17EC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6334A-4236-44D6-AA20-2924A43D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16E11-D330-4D73-AB35-309A27F9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61469-E32A-4F46-A17E-9DA9974C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769B-91E7-473B-B220-566787FD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6281-27AC-4906-B374-4F435EE6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AB34-8959-4A5B-8895-D52276D8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B198-CD82-4DF2-8AD4-FD1E31D1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31BF-32ED-413A-8F49-9D0BB00D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5521-0A4F-4CB1-A297-F7A9620C2D0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62D6-131B-45A7-9189-90D410FDFE9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B424-9CD1-4DDC-9FEB-25C73A0FC46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768F-5C08-4604-AD1E-C36EB73EBC3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7" descr="C:\Users\азизова\Downloads\9489-20171201_120859.jpg"/>
          <p:cNvPicPr/>
          <p:nvPr/>
        </p:nvPicPr>
        <p:blipFill>
          <a:blip r:embed="rId2"/>
          <a:stretch/>
        </p:blipFill>
        <p:spPr>
          <a:xfrm>
            <a:off x="6378480" y="0"/>
            <a:ext cx="2765520" cy="21891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8" descr="C:\Users\азизова\Desktop\35b4dfaeec15b583b2015dbad66c4121.jpg"/>
          <p:cNvPicPr/>
          <p:nvPr/>
        </p:nvPicPr>
        <p:blipFill>
          <a:blip r:embed="rId3"/>
          <a:stretch/>
        </p:blipFill>
        <p:spPr>
          <a:xfrm>
            <a:off x="108000" y="443700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C:\Users\азизова\Desktop\c4ec20b1a5e229c46fd767efd00f0f7f.jpg"/>
          <p:cNvPicPr/>
          <p:nvPr/>
        </p:nvPicPr>
        <p:blipFill>
          <a:blip r:embed="rId4"/>
          <a:stretch/>
        </p:blipFill>
        <p:spPr>
          <a:xfrm>
            <a:off x="6804000" y="4292640"/>
            <a:ext cx="2160720" cy="2305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C:\Users\азизова\Desktop\5mol5Kt2A4E0aBZJDS4V1650030830.jpeg"/>
          <p:cNvPicPr/>
          <p:nvPr/>
        </p:nvPicPr>
        <p:blipFill>
          <a:blip r:embed="rId5"/>
          <a:stretch/>
        </p:blipFill>
        <p:spPr>
          <a:xfrm>
            <a:off x="2411280" y="4292640"/>
            <a:ext cx="4345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Рисунок 9" descr="C:\Documents and Settings\User\Рабочий стол\рабочий стол 2018года\Новый 2018-2019 учебный год\Детям Беслана фото на сайт\IMG-20180908-WA0041.jpg"/>
          <p:cNvPicPr/>
          <p:nvPr/>
        </p:nvPicPr>
        <p:blipFill>
          <a:blip r:embed="rId2"/>
          <a:stretch/>
        </p:blipFill>
        <p:spPr>
          <a:xfrm>
            <a:off x="755640" y="3933720"/>
            <a:ext cx="4103640" cy="2816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1" descr="D:\рабочий стол 2018года\Новая папка (3)\IMG_20180502_120516.jpg"/>
          <p:cNvPicPr/>
          <p:nvPr/>
        </p:nvPicPr>
        <p:blipFill>
          <a:blip r:embed="rId3"/>
          <a:stretch/>
        </p:blipFill>
        <p:spPr>
          <a:xfrm>
            <a:off x="4932360" y="3933720"/>
            <a:ext cx="396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азизова</cp:lastModifiedBy>
  <dcterms:modified xsi:type="dcterms:W3CDTF">2022-11-24T11:11:25Z</dcterms:modified>
  <cp:revision>9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