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png" ContentType="image/png"/>
  <Override PartName="/ppt/media/image11.jpeg" ContentType="image/jpeg"/>
  <Override PartName="/ppt/media/image4.png" ContentType="image/png"/>
  <Override PartName="/ppt/media/image13.jpeg" ContentType="image/jpeg"/>
  <Override PartName="/ppt/media/image23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20.jpeg" ContentType="image/jpeg"/>
  <Override PartName="/ppt/media/image14.jpeg" ContentType="image/jpeg"/>
  <Override PartName="/ppt/media/image8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31.jpeg" ContentType="image/jpeg"/>
  <Override PartName="/ppt/media/image2.png" ContentType="image/png"/>
  <Override PartName="/ppt/media/image32.jpeg" ContentType="image/jpeg"/>
  <Override PartName="/ppt/media/image3.png" ContentType="image/png"/>
  <Override PartName="/ppt/media/image17.jpeg" ContentType="image/jpeg"/>
  <Override PartName="/ppt/media/image1.jpeg" ContentType="image/jpeg"/>
  <Override PartName="/ppt/media/image10.png" ContentType="image/png"/>
  <Override PartName="/ppt/media/image27.jpeg" ContentType="image/jpeg"/>
  <Override PartName="/ppt/media/image15.jpeg" ContentType="image/jpeg"/>
  <Override PartName="/ppt/media/image16.jpeg" ContentType="image/jpeg"/>
  <Override PartName="/ppt/media/image18.png" ContentType="image/png"/>
  <Override PartName="/ppt/media/image28.jpeg" ContentType="image/jpeg"/>
  <Override PartName="/ppt/media/image25.png" ContentType="image/png"/>
  <Override PartName="/ppt/media/image19.jpeg" ContentType="image/jpeg"/>
  <Override PartName="/ppt/media/image29.png" ContentType="image/png"/>
  <Override PartName="/ppt/media/image21.jpeg" ContentType="image/jpeg"/>
  <Override PartName="/ppt/media/image2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5BE0-3979-49DE-932C-FB414BEE5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62D6-CF9A-495E-997C-435CA7B47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9A61-7CBE-45ED-8642-AF74F5107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5938-EB47-4B9D-867F-E74A8A316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AD5DE-EC54-4BCF-A30E-CEBAE6EE4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B39D9-A9D0-442A-AEBE-145FA1E05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17031-5CAC-455E-B006-7468D82FB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018EC-F494-4BB3-893E-380551EC8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D9077-B3D4-4EA5-98F4-8B50322F2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46CAC-B031-4C69-A116-B869398EB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AF033-092F-4B03-8E2B-7953DDAE0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CF21-D6D6-48E2-8396-EC23403AD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6AE6C-81E2-4243-8303-D0F807AE5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62F18-FE9C-4EA6-B2C9-868430B65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7F431-B7C7-4BC9-A02E-FB552A952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B8D9B-1F73-4E49-BF87-4EC0272D4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28BD0-D4C8-4087-8599-354E60C69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9FBEEE-10B3-4F5D-B4F6-8EC6F00BE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7B3EC7-6F5A-437C-9F41-8215260E6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379586-9CA1-442D-B3F2-BF73546BA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2E562C-14DB-44EB-9EAB-5AE28A4A6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1C49D1-2BE8-44D0-B98B-A3C2CD034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C9FA-0212-47DA-BFB4-B4F44346F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DB0BC0-E68A-4D53-AD40-85B845324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CE900F-9F28-418B-AD45-56C24B2FE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4D4629-2F90-48B4-BEA6-0B915EC56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B328E9-B7C1-4D0D-9D00-911B798CB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1EE857-5F8F-4D7D-8636-5AA85D54C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E4CEC8-8D17-40B6-B05E-71C8A8C84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65663C-C4A7-4FEB-8B3D-8C6DB97E9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52CF08-E643-410D-8BAE-F4E9AFFA2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2C1F5B-8E68-482D-B523-CC915743D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84BA6A-925F-4CF8-846C-FB36899EB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B100-FBB5-4525-8001-CB58008F9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C6E68B-4924-4D12-B27A-D9A91ED0B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6B2B73-8AD4-4C6C-AE61-E85907506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B170A9-1950-4542-BAD9-6BCA3E799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7B857F-66F6-4689-9E71-4244648BD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7EFAF1-4B4D-4FAD-8B3D-F62A85187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317C09-B23F-4A58-A260-883F798DD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EA0EF3-DA57-492A-B780-507D438FA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AA5BC6-8CD9-4927-8ECB-529F03653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A7B465-4384-4E36-8DD0-44484CD81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94BB-28DB-43D4-9EC4-67714AD0A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6B1A-A504-4CC1-A2F1-4149736D2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3DFD-1AF1-4FA4-BA96-DCF250DF3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A03C-B438-4A0C-8DCA-230A301F9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5C31-1CE7-4AC5-B557-ABD2EC197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7.xml"/><Relationship Id="rId10" Type="http://schemas.openxmlformats.org/officeDocument/2006/relationships/slideLayout" Target="../slideLayouts/slideLayout38.xml"/><Relationship Id="rId11" Type="http://schemas.openxmlformats.org/officeDocument/2006/relationships/slideLayout" Target="../slideLayouts/slideLayout39.xml"/><Relationship Id="rId12" Type="http://schemas.openxmlformats.org/officeDocument/2006/relationships/slideLayout" Target="../slideLayouts/slideLayout40.xml"/><Relationship Id="rId13" Type="http://schemas.openxmlformats.org/officeDocument/2006/relationships/slideLayout" Target="../slideLayouts/slideLayout41.xml"/><Relationship Id="rId14" Type="http://schemas.openxmlformats.org/officeDocument/2006/relationships/slideLayout" Target="../slideLayouts/slideLayout42.xml"/><Relationship Id="rId15" Type="http://schemas.openxmlformats.org/officeDocument/2006/relationships/slideLayout" Target="../slideLayouts/slideLayout43.xml"/><Relationship Id="rId16" Type="http://schemas.openxmlformats.org/officeDocument/2006/relationships/slideLayout" Target="../slideLayouts/slideLayout44.xml"/><Relationship Id="rId17" Type="http://schemas.openxmlformats.org/officeDocument/2006/relationships/slideLayout" Target="../slideLayouts/slideLayout45.xml"/><Relationship Id="rId18" Type="http://schemas.openxmlformats.org/officeDocument/2006/relationships/slideLayout" Target="../slideLayouts/slideLayout46.xml"/><Relationship Id="rId19" Type="http://schemas.openxmlformats.org/officeDocument/2006/relationships/slideLayout" Target="../slideLayouts/slideLayout47.xml"/><Relationship Id="rId20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14BCF-A71D-46E7-8DCD-009E402DD816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52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55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59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61" name="Rectangle 10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62" name="Rectangle 10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64" name="Rectangle 11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65" name="Rectangle 11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68" name="Oval 13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69" name="Oval 13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7D336-EE0E-4D7F-A181-3635380D0053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13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116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20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22" name="Rectangle 6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23" name="Rectangle 6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25" name="Rectangle 7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26" name="Rectangle 7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2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30" name="Oval 9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8E71C-693D-4D0C-85D7-0987C7307A1D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74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76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177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9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80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81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83" name="Rectangle 7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84" name="Rectangle 7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86" name="Rectangle 8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87" name="Rectangle 8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8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90" name="Oval 10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91" name="Oval 10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571C8-7951-4F3E-922A-891601553236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9"/>
    <p:sldLayoutId id="2147483689" r:id="rId10"/>
    <p:sldLayoutId id="2147483690" r:id="rId11"/>
    <p:sldLayoutId id="2147483691" r:id="rId12"/>
    <p:sldLayoutId id="2147483692" r:id="rId13"/>
    <p:sldLayoutId id="2147483693" r:id="rId14"/>
    <p:sldLayoutId id="2147483694" r:id="rId15"/>
    <p:sldLayoutId id="2147483695" r:id="rId16"/>
    <p:sldLayoutId id="2147483696" r:id="rId17"/>
    <p:sldLayoutId id="2147483697" r:id="rId18"/>
    <p:sldLayoutId id="2147483698" r:id="rId19"/>
    <p:sldLayoutId id="2147483699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Заголовок 1" descr=""/>
          <p:cNvPicPr/>
          <p:nvPr/>
        </p:nvPicPr>
        <p:blipFill>
          <a:blip r:embed="rId1"/>
          <a:stretch/>
        </p:blipFill>
        <p:spPr>
          <a:xfrm>
            <a:off x="171360" y="738360"/>
            <a:ext cx="8369280" cy="51019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2" descr="C:\Users\User\Desktop\система работы по профориентации\7777.jpg"/>
          <p:cNvPicPr/>
          <p:nvPr/>
        </p:nvPicPr>
        <p:blipFill>
          <a:blip r:embed="rId2"/>
          <a:stretch/>
        </p:blipFill>
        <p:spPr>
          <a:xfrm>
            <a:off x="7380360" y="260280"/>
            <a:ext cx="1244520" cy="165420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1472760" y="5052960"/>
            <a:ext cx="5637240" cy="8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12745"/>
                </a:solidFill>
                <a:latin typeface="Trebuchet MS"/>
              </a:rPr>
              <a:t>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Прямоугольник 1"/>
          <p:cNvSpPr/>
          <p:nvPr/>
        </p:nvSpPr>
        <p:spPr>
          <a:xfrm>
            <a:off x="250920" y="476280"/>
            <a:ext cx="8497800" cy="64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c00000"/>
                </a:solidFill>
                <a:uFillTx/>
                <a:latin typeface="Trebuchet MS"/>
              </a:rPr>
              <a:t>ПРОФОРИЕНТАЦИОННАЯ РАБОТА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44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rebuchet MS"/>
              </a:rPr>
              <a:t>в школе приносит пользу только тогда, когда к работе привлечён весь коллектив школы, и когда соблюдаются </a:t>
            </a:r>
            <a:r>
              <a:rPr b="1" lang="ru-RU" sz="2800" spc="-1" strike="noStrike" u="sng">
                <a:solidFill>
                  <a:srgbClr val="c00000"/>
                </a:solidFill>
                <a:uFillTx/>
                <a:latin typeface="Trebuchet MS"/>
              </a:rPr>
              <a:t>следующие принципы</a:t>
            </a:r>
            <a:r>
              <a:rPr b="1" lang="ru-RU" sz="2800" spc="-1" strike="noStrike">
                <a:solidFill>
                  <a:srgbClr val="c00000"/>
                </a:solidFill>
                <a:latin typeface="Trebuchet MS"/>
              </a:rPr>
              <a:t>:</a:t>
            </a:r>
            <a:br>
              <a:rPr sz="28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1) Систематичность и преемственность - профориентационная работа не должна ограничиваться работой только  со старшеклассниками. Эта работа ведется с первого по выпускной класс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2) Дифференцированный и индивидуальный подход к учащимся в зависимости от возраста и уровня сформированности их интересов, от различий в ценностных ориентациях и жизненных планах, от уровня успеваемости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3) Оптимальное сочетание массовых, групповых и индивидуальных форм профориентационной работы с учащимися и родителями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4) Взаимосвязь школы, семьи, профессиональных учебных заведений, службы занятости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5) Связь профориентации с жизнью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1472760" y="5052960"/>
            <a:ext cx="5637240" cy="8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212745"/>
              </a:solidFill>
              <a:latin typeface="Trebuchet MS"/>
            </a:endParaRPr>
          </a:p>
        </p:txBody>
      </p:sp>
      <p:pic>
        <p:nvPicPr>
          <p:cNvPr id="239" name="Заголовок 2" descr=""/>
          <p:cNvPicPr/>
          <p:nvPr/>
        </p:nvPicPr>
        <p:blipFill>
          <a:blip r:embed="rId1"/>
          <a:stretch/>
        </p:blipFill>
        <p:spPr>
          <a:xfrm>
            <a:off x="-6480" y="353880"/>
            <a:ext cx="9126720" cy="45784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2" descr="C:\Users\User\Desktop\Новая папка\Изображение 513.jpg"/>
          <p:cNvPicPr/>
          <p:nvPr/>
        </p:nvPicPr>
        <p:blipFill>
          <a:blip r:embed="rId2"/>
          <a:stretch/>
        </p:blipFill>
        <p:spPr>
          <a:xfrm>
            <a:off x="-92160" y="4611600"/>
            <a:ext cx="2995560" cy="22464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3" descr="C:\Users\User\Desktop\Новая папка\P1010377.JPG"/>
          <p:cNvPicPr/>
          <p:nvPr/>
        </p:nvPicPr>
        <p:blipFill>
          <a:blip r:embed="rId3"/>
          <a:stretch/>
        </p:blipFill>
        <p:spPr>
          <a:xfrm>
            <a:off x="6561000" y="104760"/>
            <a:ext cx="2552760" cy="191304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4" descr="C:\Users\User\Desktop\Новая папка\20131113_162307.jpg"/>
          <p:cNvPicPr/>
          <p:nvPr/>
        </p:nvPicPr>
        <p:blipFill>
          <a:blip r:embed="rId4"/>
          <a:stretch/>
        </p:blipFill>
        <p:spPr>
          <a:xfrm>
            <a:off x="6404040" y="3854520"/>
            <a:ext cx="2716200" cy="20365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5" descr="C:\Users\User\Desktop\Новая папка\S5005092.JPG"/>
          <p:cNvPicPr/>
          <p:nvPr/>
        </p:nvPicPr>
        <p:blipFill>
          <a:blip r:embed="rId5"/>
          <a:stretch/>
        </p:blipFill>
        <p:spPr>
          <a:xfrm>
            <a:off x="2894040" y="4691160"/>
            <a:ext cx="2781360" cy="208764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8" descr="C:\Users\User\Desktop\Новая папка\CIMG4584.JPG"/>
          <p:cNvPicPr/>
          <p:nvPr/>
        </p:nvPicPr>
        <p:blipFill>
          <a:blip r:embed="rId6"/>
          <a:stretch/>
        </p:blipFill>
        <p:spPr>
          <a:xfrm>
            <a:off x="5680080" y="4946760"/>
            <a:ext cx="2441520" cy="18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Заголовок 1" descr=""/>
          <p:cNvPicPr/>
          <p:nvPr/>
        </p:nvPicPr>
        <p:blipFill>
          <a:blip r:embed="rId1"/>
          <a:stretch/>
        </p:blipFill>
        <p:spPr>
          <a:xfrm>
            <a:off x="1785960" y="4078440"/>
            <a:ext cx="6791400" cy="179856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 txBox="1"/>
          <p:nvPr/>
        </p:nvSpPr>
        <p:spPr>
          <a:xfrm>
            <a:off x="178920" y="0"/>
            <a:ext cx="9145800" cy="35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07720" indent="-16596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Trebuchet MS"/>
              </a:rPr>
              <a:t>Встречи со специалистами разных профессии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Trebuchet MS"/>
              </a:rPr>
              <a:t>Планируемые результаты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 результате изучения курса у  школьников формируются: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ервоначальные представления о нравственных основах учебы, ведущей роли образования, труда и значении творчества в жизни человека и общества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важение к труду и творчеству старших и сверстников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элементарные представления об основных профессиях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ценностное отношение к учебе как виду творческой деятельности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элементарные представления о роли знаний, науки, современного производства в жизни человека и общества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ервоначальные навыки коллективной работы, в том числе при разработке и реализации учебных и учебно-трудовых проектов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мение проявлять дисциплинированность, последовательность и настойчивость в выполнении трудовых заданий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мение соблюдать порядок на рабочем месте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бережное отношение к результатам своего труда, труда других людей, к школьному имуществу, учебникам, личным вещам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трицательное отношение к лени и небрежности в труде и учебе,  небережливому отношению к результатам труда людей.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7" name="Picture 5" descr="D:\MY FOTO\Школьные фото\МО учителей школы\МО МАТЕМАТИКОВ\Изображение 025.jpg"/>
          <p:cNvPicPr/>
          <p:nvPr/>
        </p:nvPicPr>
        <p:blipFill>
          <a:blip r:embed="rId2"/>
          <a:stretch/>
        </p:blipFill>
        <p:spPr>
          <a:xfrm>
            <a:off x="5983200" y="3908520"/>
            <a:ext cx="2298960" cy="172404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7" descr="D:\MY FOTO\Школьные фото\МО учителей школы\МО ОБЖ, ФИЗ-РЫ\Изображение 052.jpg"/>
          <p:cNvPicPr/>
          <p:nvPr/>
        </p:nvPicPr>
        <p:blipFill>
          <a:blip r:embed="rId3"/>
          <a:stretch/>
        </p:blipFill>
        <p:spPr>
          <a:xfrm>
            <a:off x="6729480" y="4937040"/>
            <a:ext cx="2419200" cy="181476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9" descr="SANY0478"/>
          <p:cNvPicPr/>
          <p:nvPr/>
        </p:nvPicPr>
        <p:blipFill>
          <a:blip r:embed="rId4"/>
          <a:stretch/>
        </p:blipFill>
        <p:spPr>
          <a:xfrm>
            <a:off x="3363840" y="3886200"/>
            <a:ext cx="2232000" cy="1674720"/>
          </a:xfrm>
          <a:prstGeom prst="rect">
            <a:avLst/>
          </a:prstGeom>
          <a:ln w="0">
            <a:noFill/>
          </a:ln>
        </p:spPr>
      </p:pic>
      <p:pic>
        <p:nvPicPr>
          <p:cNvPr id="250" name="Рисунок 3" descr=""/>
          <p:cNvPicPr/>
          <p:nvPr/>
        </p:nvPicPr>
        <p:blipFill>
          <a:blip r:embed="rId5"/>
          <a:stretch/>
        </p:blipFill>
        <p:spPr>
          <a:xfrm>
            <a:off x="176040" y="4076640"/>
            <a:ext cx="3071880" cy="2347920"/>
          </a:xfrm>
          <a:prstGeom prst="rect">
            <a:avLst/>
          </a:prstGeom>
          <a:ln w="0">
            <a:noFill/>
          </a:ln>
        </p:spPr>
      </p:pic>
      <p:pic>
        <p:nvPicPr>
          <p:cNvPr id="251" name="Рисунок 4" descr=""/>
          <p:cNvPicPr/>
          <p:nvPr/>
        </p:nvPicPr>
        <p:blipFill>
          <a:blip r:embed="rId6"/>
          <a:stretch/>
        </p:blipFill>
        <p:spPr>
          <a:xfrm>
            <a:off x="4535640" y="5103720"/>
            <a:ext cx="2158920" cy="1648080"/>
          </a:xfrm>
          <a:prstGeom prst="rect">
            <a:avLst/>
          </a:prstGeom>
          <a:ln w="0">
            <a:noFill/>
          </a:ln>
        </p:spPr>
      </p:pic>
      <p:pic>
        <p:nvPicPr>
          <p:cNvPr id="252" name="Рисунок 5" descr=""/>
          <p:cNvPicPr/>
          <p:nvPr/>
        </p:nvPicPr>
        <p:blipFill>
          <a:blip r:embed="rId7"/>
          <a:stretch/>
        </p:blipFill>
        <p:spPr>
          <a:xfrm>
            <a:off x="2189160" y="5073480"/>
            <a:ext cx="2276640" cy="17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250560" y="476280"/>
            <a:ext cx="87138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12745"/>
                </a:solidFill>
                <a:latin typeface="Trebuchet MS"/>
              </a:rPr>
              <a:t> </a:t>
            </a:r>
            <a:r>
              <a:rPr b="1" lang="ru-RU" sz="2000" spc="-1" strike="noStrike">
                <a:solidFill>
                  <a:srgbClr val="212745"/>
                </a:solidFill>
                <a:latin typeface="Trebuchet MS"/>
              </a:rPr>
              <a:t>Планируемые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 </a:t>
            </a:r>
            <a:r>
              <a:rPr b="1" lang="ru-RU" sz="2000" spc="-1" strike="noStrike">
                <a:solidFill>
                  <a:srgbClr val="212745"/>
                </a:solidFill>
                <a:latin typeface="Trebuchet MS"/>
              </a:rPr>
              <a:t>результаты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: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Личностные: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- выявление личностных особенностей и склонности у обучающихся к определённой профессии; деятельности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 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- ознакомить обучающихся с особенностями той профессии, задания в области которой им предлагается выполнить на практике. ..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Познавательные: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обеспечить </a:t>
            </a:r>
            <a:r>
              <a:rPr b="1" lang="ru-RU" sz="2000" spc="-1" strike="noStrike">
                <a:solidFill>
                  <a:srgbClr val="212745"/>
                </a:solidFill>
                <a:latin typeface="Trebuchet MS"/>
              </a:rPr>
              <a:t>профессиональное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 самоопределение обучающихся;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- дать реальные данные по различным аспектам профессии (востребованность на рынке труда, объём работы, сложности в получении образования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4" name="Заголовок 2" descr=""/>
          <p:cNvPicPr/>
          <p:nvPr/>
        </p:nvPicPr>
        <p:blipFill>
          <a:blip r:embed="rId1"/>
          <a:stretch/>
        </p:blipFill>
        <p:spPr>
          <a:xfrm>
            <a:off x="317520" y="133200"/>
            <a:ext cx="8362800" cy="81756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2" descr="C:\Users\User\Desktop\Новая папка (2)\профессиональные пробы\ПРОФЕССИОНАЛЬНЫЕ ПРОБЫ  слайды\экскурсовод.jpg"/>
          <p:cNvPicPr/>
          <p:nvPr/>
        </p:nvPicPr>
        <p:blipFill>
          <a:blip r:embed="rId2"/>
          <a:stretch/>
        </p:blipFill>
        <p:spPr>
          <a:xfrm>
            <a:off x="33480" y="4557600"/>
            <a:ext cx="3124080" cy="221616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3" descr="C:\Users\User\Desktop\Новая папка (2)\профессиональные пробы\ПРОФЕССИОНАЛЬНЫЕ ПРОБЫ  слайды\театр.jpg"/>
          <p:cNvPicPr/>
          <p:nvPr/>
        </p:nvPicPr>
        <p:blipFill>
          <a:blip r:embed="rId3"/>
          <a:stretch/>
        </p:blipFill>
        <p:spPr>
          <a:xfrm>
            <a:off x="3048120" y="4467240"/>
            <a:ext cx="3268440" cy="231768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4" descr="C:\Users\User\Desktop\Новая папка (2)\профессиональные пробы\ПРОФЕССИОНАЛЬНЫЕ ПРОБЫ  слайды\экологическая игра 1.jpg"/>
          <p:cNvPicPr/>
          <p:nvPr/>
        </p:nvPicPr>
        <p:blipFill>
          <a:blip r:embed="rId4"/>
          <a:stretch/>
        </p:blipFill>
        <p:spPr>
          <a:xfrm>
            <a:off x="6054840" y="4653000"/>
            <a:ext cx="3055680" cy="2141640"/>
          </a:xfrm>
          <a:prstGeom prst="rect">
            <a:avLst/>
          </a:prstGeom>
          <a:ln w="0">
            <a:noFill/>
          </a:ln>
        </p:spPr>
      </p:pic>
      <p:pic>
        <p:nvPicPr>
          <p:cNvPr id="258" name="Рисунок 4" descr=""/>
          <p:cNvPicPr/>
          <p:nvPr/>
        </p:nvPicPr>
        <p:blipFill>
          <a:blip r:embed="rId5"/>
          <a:stretch/>
        </p:blipFill>
        <p:spPr>
          <a:xfrm>
            <a:off x="4694400" y="5129280"/>
            <a:ext cx="2290680" cy="1741320"/>
          </a:xfrm>
          <a:prstGeom prst="rect">
            <a:avLst/>
          </a:prstGeom>
          <a:ln w="0">
            <a:noFill/>
          </a:ln>
        </p:spPr>
      </p:pic>
      <p:pic>
        <p:nvPicPr>
          <p:cNvPr id="259" name="Рисунок 5" descr=""/>
          <p:cNvPicPr/>
          <p:nvPr/>
        </p:nvPicPr>
        <p:blipFill>
          <a:blip r:embed="rId6"/>
          <a:stretch/>
        </p:blipFill>
        <p:spPr>
          <a:xfrm>
            <a:off x="1835280" y="5626080"/>
            <a:ext cx="1301760" cy="10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1" name="Picture 2" descr="C:\Users\User\Desktop\система работы по профориентации\0002-002-Proforientatsija.jpg"/>
          <p:cNvPicPr/>
          <p:nvPr/>
        </p:nvPicPr>
        <p:blipFill>
          <a:blip r:embed="rId1"/>
          <a:stretch/>
        </p:blipFill>
        <p:spPr>
          <a:xfrm>
            <a:off x="87480" y="138240"/>
            <a:ext cx="8948520" cy="660384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3" descr="C:\Users\User\Desktop\система работы по профориентации\CtotakoeEM_EM_339438453.jpg"/>
          <p:cNvPicPr/>
          <p:nvPr/>
        </p:nvPicPr>
        <p:blipFill>
          <a:blip r:embed="rId2"/>
          <a:stretch/>
        </p:blipFill>
        <p:spPr>
          <a:xfrm>
            <a:off x="7451640" y="476280"/>
            <a:ext cx="1141560" cy="8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78920" y="3357360"/>
            <a:ext cx="8713800" cy="31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rebuchet MS"/>
              </a:rPr>
              <a:t>Проблемная тема школы –</a:t>
            </a:r>
            <a:br>
              <a:rPr sz="2800"/>
            </a:br>
            <a:r>
              <a:rPr b="1" lang="ru-RU" sz="2800" spc="-1" strike="noStrike">
                <a:solidFill>
                  <a:srgbClr val="7030a0"/>
                </a:solidFill>
                <a:latin typeface="Trebuchet MS"/>
              </a:rPr>
              <a:t>создание условий для успешного саморазвития и самоопределения личности ученика средствами образовательного пространства школы.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95280" y="731880"/>
            <a:ext cx="8353440" cy="26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>
              <a:spcBef>
                <a:spcPts val="7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rebuchet MS"/>
              </a:rPr>
              <a:t>Выбор будущей профессии – сложный и ответственный шаг в жизни каждого человека. От продуманного выбора профессии зависит будущая судьба, свое место в жизни.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3T16:57:46Z</dcterms:created>
  <dc:creator>User</dc:creator>
  <dc:description/>
  <dc:language>en-US</dc:language>
  <cp:lastModifiedBy>комп5</cp:lastModifiedBy>
  <dcterms:modified xsi:type="dcterms:W3CDTF">2022-11-23T11:33:06Z</dcterms:modified>
  <cp:revision>78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a5d0000000000010243100207f6000400038000</vt:lpwstr>
  </property>
</Properties>
</file>