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B3C-9622-4C9F-AFE5-F983EF93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B15-1210-4449-9C60-74BE7932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59E-DF90-430F-BB35-1D91F4D3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ABA-0268-4949-B669-D9940626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6031-6160-4A99-B228-F278CEF2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4175-1977-4B22-9AF4-F5271DC4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20E2-0ABE-43F2-8B2E-E8CF0631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C38A-0DF5-4D24-A9C1-1E2D7357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84C5-8255-4BB2-83B6-1EF0A62A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A536-8F67-4BB2-B346-F2D98CEB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EC80-1D47-4A5D-A014-E54B55B6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3B0-58EE-4216-B133-392BEAD5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7E13-9BD6-4A27-9295-85CC72AE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50D1-22F7-4066-8FCC-A4DA25FB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26E1-BE51-4E62-BC74-68ECF821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4165-E581-46E0-9F1A-8FCB1639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493C-F67C-4CF5-9E98-BA2794A5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585E-2DD6-4D5F-8BC6-C8AF1A11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CB70-475C-41DF-8776-2A554FBB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DFDC-7B66-4E67-8C0A-02AE24A6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3A55-EBC7-4F2B-8E73-A3F0EA64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2A8A5-F726-4F40-8E63-9B238430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BE2-D371-4C82-B77A-596074C5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C941-FD77-46C5-A612-2AD6250B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04F82-1B10-4FDC-9C03-168E02DB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7CE4D-5EA3-4A40-8E6E-3BB24283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C94B8-1940-4A2E-AAD8-6F130355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C3111-0212-471D-B17D-EFC62D0F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3DCB2-155B-4EB9-AAA6-76402362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14ED8-EEA9-4F50-99D6-D8C72D4B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5A9A-7C81-4456-88A8-B3B35CDA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00236-9978-45FA-9055-13A38F56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3C23F-A677-4532-916E-27700759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600-B5F7-479F-BE25-3DA58E59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A988-5164-44A1-A2FA-9CA706F4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8A5FD-B697-45E0-9837-C9C34B0F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1634-1315-44E2-84CB-AEB2AED9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780F0-18BE-4213-B098-8DCF0A7D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072D0-F925-4F9F-B4F7-01AADD7D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952F0-DAB0-4C74-B3B0-C72D212C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AB1E7-982D-47DB-9C5C-0AB37176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AFCC-7C8D-4402-99AC-9A58D45E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BBB4-70A1-4214-B70B-9C2542DA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64F-E603-4420-B0EB-C33292AF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04B-8463-452C-B83E-6AB8E5EB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026-9D1C-4C16-80BE-20437538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9B2-4255-49E2-BD80-C18679AF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9AF-17F0-4271-BB11-A951B19F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7166-2AB8-4B04-9AE3-DEAB9D58809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EAF1-7999-4387-B43F-A61A57E7AF6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22FA-9387-478D-ADAC-2DA55E7DD64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57EA-F8CF-4C34-B946-81FF7C95294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429680" y="14292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000240" cy="2714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"/>
          <p:cNvPicPr/>
          <p:nvPr/>
        </p:nvPicPr>
        <p:blipFill>
          <a:blip r:embed="rId3"/>
          <a:stretch/>
        </p:blipFill>
        <p:spPr>
          <a:xfrm>
            <a:off x="6345360" y="0"/>
            <a:ext cx="2798640" cy="211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5"/>
          <a:stretch/>
        </p:blipFill>
        <p:spPr>
          <a:xfrm>
            <a:off x="0" y="407196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3000240" y="3960720"/>
            <a:ext cx="3286440" cy="289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6286680" y="3857760"/>
            <a:ext cx="2822400" cy="3000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4"/>
          <a:stretch/>
        </p:blipFill>
        <p:spPr>
          <a:xfrm>
            <a:off x="0" y="4511520"/>
            <a:ext cx="3070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3"/>
          <a:stretch/>
        </p:blipFill>
        <p:spPr>
          <a:xfrm>
            <a:off x="3071880" y="4500720"/>
            <a:ext cx="2855880" cy="2357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4"/>
          <a:stretch/>
        </p:blipFill>
        <p:spPr>
          <a:xfrm>
            <a:off x="0" y="4470480"/>
            <a:ext cx="3143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Admin</cp:lastModifiedBy>
  <dcterms:modified xsi:type="dcterms:W3CDTF">2022-11-23T20:21:51Z</dcterms:modified>
  <cp:revision>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